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0EF-ED8F-404C-B4C4-79EEE6D1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8F0-F9A5-4D91-9562-82792119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27B-3DB1-4CB7-971E-20B3718E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1A7-6E8D-4815-BA51-95A8F3DE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0BF-F656-40BB-AC91-C29F12A8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9ED-2A5A-4177-BF73-A6F5FE60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2A8-51EE-40BF-A082-1E5FF6EA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9D1-6B68-486A-ABDF-8481D237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74C-A8B4-46B2-93AF-3568AABD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9D9-D168-405F-B111-56A9DBA6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029-D68C-44C8-B8E6-3B2EB6E9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817-0EB2-4EDB-9AA0-6042F337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7844-7096-4B4A-A072-E002CD3713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868680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anguag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起的句子或分句（在肯定句后），说某人、某事与刚才提到的相同，这时也用倒装语序。如有助动词或情态动词，把它放在主语之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n can dance beautifully,    and_______________________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姐姐也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ock music. _______________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我也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have a headache.       ______________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我也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1240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can her si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3733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do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4373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 have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2:09:20Z</dcterms:created>
  <dc:creator>user</dc:creator>
  <dc:description/>
  <dc:language>en-US</dc:language>
  <cp:lastModifiedBy>zhangjunguang</cp:lastModifiedBy>
  <dcterms:modified xsi:type="dcterms:W3CDTF">2003-08-06T06:12:36Z</dcterms:modified>
  <cp:revision>8</cp:revision>
  <dc:subject/>
  <dc:title>PowerPoint 演示文稿</dc:title>
</cp:coreProperties>
</file>